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5C20-9814-4F4B-AD62-2AB9FCC03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165B-D3CA-4CC2-8AEC-A4953523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EE6F-DC44-4793-B5C9-27967CBF1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F93E-046E-49BB-ABCA-63D2A7B5D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A726-9908-4D84-AB0A-568D99EC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2487-FF5B-4A31-8328-A5886DA3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F050-1659-43D7-BDDC-E0001B43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6C40-46D2-4D86-B5B1-90000D16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0615-E612-4757-B454-54CC91D5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5AA8-8386-49C3-BEA4-BF5ADA9A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5264-7F47-498D-965E-4D72C0B5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010D-3471-4F7A-B6B6-A1AAEF02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CCD1-7E26-455D-9979-D2AA4B7AC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50states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usa/statesbw/ohio.shtml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www.enchantedlearning.com/usa/flags/ohio/ohioflag.s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fermi.jhuapl.edu/states/avhrr/OH_213.n14.96may31_1830.gi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1520" y="5253120"/>
            <a:ext cx="2057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ylor Sm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-17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 rot="1651200">
            <a:off x="2742840" y="1371240"/>
            <a:ext cx="5308560" cy="25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613b9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hi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613b9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4419720"/>
            <a:ext cx="35053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hio song: 50 states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hi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-25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50stat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fb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ffb37"/>
                </a:solidFill>
                <a:latin typeface="Arial"/>
              </a:rPr>
              <a:t>Capital: Columb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fb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ffb37"/>
                </a:solidFill>
                <a:latin typeface="Arial"/>
              </a:rPr>
              <a:t>Population: 11,353,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fb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ffb37"/>
                </a:solidFill>
                <a:latin typeface="Arial"/>
              </a:rPr>
              <a:t>Entered union: March 1, 1803 and was the 17</a:t>
            </a:r>
            <a:r>
              <a:rPr b="0" lang="en-US" sz="2800" spc="-1" strike="noStrike" baseline="30000">
                <a:solidFill>
                  <a:srgbClr val="6ffb37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6ffb37"/>
                </a:solidFill>
                <a:latin typeface="Arial"/>
              </a:rPr>
              <a:t> state to 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to: With god, all thing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</a:rPr>
              <a:t>Nickname: Buckeye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</a:rPr>
              <a:t>Flower: Scarlet Car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</a:rPr>
              <a:t>Song: Beautiful Oh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ing behind name: Beautiful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Gem: Ohio fl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34</a:t>
            </a:r>
            <a:r>
              <a:rPr b="0" lang="en-US" sz="2800" spc="-1" strike="noStrike" baseline="30000">
                <a:solidFill>
                  <a:srgbClr val="66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biggest state in the U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People who live there are considered Ohio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he state insect is the Lady B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hey produce steel, cars, airplanes, rubber, farming and m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04920"/>
            <a:ext cx="2905200" cy="2762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57200" y="350532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hio’s Capital is Columbus, you can see the star next to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1066680"/>
            <a:ext cx="2743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p: Enchanted Learning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hi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10-18-1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enchantedlearn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91120" y="3657600"/>
            <a:ext cx="2190600" cy="1390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400800" y="34290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Ohio’s state flag. They got their nickname, “The Buckeye State”, from the O in the midd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5803920"/>
            <a:ext cx="4289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ag: Enchanted Learning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hi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10-18-11, www.enchantedlearn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All images Copyright © 1997 - 2000 WriteLine. All Rights Reserved. Columbus OH Capitol"/>
          <p:cNvPicPr/>
          <p:nvPr/>
        </p:nvPicPr>
        <p:blipFill>
          <a:blip r:embed="rId1"/>
          <a:stretch/>
        </p:blipFill>
        <p:spPr>
          <a:xfrm>
            <a:off x="838080" y="1066680"/>
            <a:ext cx="7543800" cy="5029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45720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Ohio’s capital, Columb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6095880"/>
            <a:ext cx="7696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from America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lumb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10-25-11,  www.postcardsfrom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457200"/>
            <a:ext cx="2752560" cy="3009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3581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satellite image of Oh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1752480"/>
            <a:ext cx="3657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hio: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erm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10-18-1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fermi.jhuapl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010640" cy="4478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90720" y="685800"/>
            <a:ext cx="69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a gathering somewhere in Oh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56386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lumb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10-25-11, www.rpmotor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3:12:12Z</dcterms:created>
  <dc:creator>install</dc:creator>
  <dc:description/>
  <dc:language>en-US</dc:language>
  <cp:lastModifiedBy>install</cp:lastModifiedBy>
  <dcterms:modified xsi:type="dcterms:W3CDTF">2011-10-27T13:38:40Z</dcterms:modified>
  <cp:revision>13</cp:revision>
  <dc:subject/>
  <dc:title>Slide 1</dc:title>
</cp:coreProperties>
</file>